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2EC-1F29-4E2F-82B5-B652A533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141-9F4A-48FA-AF28-6ECEB43F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826-BD1F-4ED6-AECE-BA4971C2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190-B5DF-4DA5-9DA4-719A94E6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2046-858D-4BA5-8A19-17B6F49A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A866-7C5B-4A2D-B490-71BC54CC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8581-D97E-4720-8454-EF00F40D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FA29-6FC2-4383-84C9-9F07F63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05D6-5174-47A5-B384-E5B066E4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7534-7316-4212-AA91-9ED5ADE0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67A5-76CE-4F56-A99E-4EC52C5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ECD-A966-4765-A93F-3234AD3D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C27B-37C7-47A2-8FAF-1F9484A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1151-D326-4E9A-BDA6-0717D6B1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6A69-A5F1-47EC-96A7-C5D4C233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82AD-2EB4-484D-ACD8-4DEDBA3E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0351-6642-4214-AFBB-6F9BA8A7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FDD-FB7D-45D1-909C-8CF7BB18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698-74B2-46ED-B8F7-9E632EED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61C-6A94-4D8A-9329-C3FFCEFA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15F-B84E-4605-87E2-95321CD8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BE8-3B13-4758-B51E-5E3BFA0F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3F8-E4EC-41BC-8B66-E5DB6E12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9A8-D052-4287-B74B-C7017D0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98CA-7264-4225-A0BD-E630AAF90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8662-608D-4B4E-A4CA-D03F7582F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 20 - 24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heritance of the Levites an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Land Promise Fulfilled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Quarter 3; Lesson 7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ges 42 -48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 the Days of the Judges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Challenge To Israel (24:14-25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…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hoose you this day whom ye serve; whether the gods which your fathers served that were on the other side of the flood, or the gods of the Amorites in whose land ye dwell: but as for me and my house, we will serve the Lord.” (24:1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srael’s response: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God forbid that we should forsake the Lord, to serve other gods; for....” (24:16-2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ath of Joshua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29-3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ge 11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Timnath-serah, his inheritance in the hill-country of Ephraim – the city he buil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ones of Joseph Burie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2-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eph had requested that his bones be carried from Egypt (Gen. 50:2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took his bones out of Egypt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Ex. 13:1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w, his bones are buried in Shechem, in land bought by his father (Gen. 24:32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Shechem was in the territory of Ephraim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leazar Die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a hill that belonged to Phinehas his son in Ephra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943600" y="1371600"/>
            <a:ext cx="2514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24480" y="3657600"/>
            <a:ext cx="1981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50532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14300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ities of Refuge (20:1-9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943600"/>
            <a:ext cx="29718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172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at was their purpos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09720" y="2286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heritance of the Levites (21:1 - 21:42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ities of the Levit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0:1-4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many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886200"/>
            <a:ext cx="37339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Lord gave them peac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l God’s promises to Israel came to pa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2004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nd Promise Fulfilled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400" y="380520"/>
            <a:ext cx="3657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ities of the Levit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54100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410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Trans-Jordanic Tribes Return Home (22:1-34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hua calls the Reubenites, Gadites and the half tribe of Manasseh togeth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commands them to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ke heed to the law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ve the Lord your Go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alk in all His w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eep His commandm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leave to Hi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ve Him with all your heart and all your sou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Trans-Jordanic Tribes Return Home (22:1-34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departing soldiers antagonize the rest of Israel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22:10-3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built a great altar by Jordan River (22:1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srael gathered to make war against these soldiers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22:11-12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inehas and 10 leaders of the tribes sent to confront these soldiers (22:13-2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soldiers explain their action (22:21-2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inehas and the leaders were satisfied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22:30-3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Charge to the Leaders of Israel  (23:1-16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e courageous and keep all the commandments (23: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 not go among the nations that remain (23: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ke heed to love the Lord your God (23:1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f you mix with these nations, you shall perish from the land (23:12-1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 am going in all the ways of the earth” (23:1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warning if they forsake God (23:15-1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ancestors (Terah) served other go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brought Abraham from beyond the Euphrates to the land of Cana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multiplied his nation through Isaac and then though Jacob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acob and his children went down to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and Aaron sent to deliver them, and God plagued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 brought Israel out of Egypt and across the Red Sea; and destroyed the Egypti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dwelt in the wilderness a long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Amorites were delivered to them and they took their lan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alak, king of Moab, fought against Israel but God blessed th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crossed the Jordan River and God delivered all of the nations of Canaan into their ha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gave them land they did not have to work for, cities they did not build, vineyards and olive-yards they did not pla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5-01-26T20:21:24Z</dcterms:modified>
  <cp:revision>25</cp:revision>
  <dc:subject/>
  <dc:title>Joshua 20 - 24 Inheritance for the Levites</dc:title>
</cp:coreProperties>
</file>